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whoosh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772A-A585-4093-8045-3EDBA90C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713D-B9AD-4E2D-B5AE-9A37349C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DD0F-E14F-4B3A-AC56-A84E0335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0A1D-1F32-4549-AAFA-44C2E42F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63AE-0ABF-43DE-80F0-E011E3E1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97C8-9F7F-436D-9320-DDE252E8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0F00-D02E-488B-9144-950D3326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0713-5C9E-4922-A6D9-3142952D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FB30-268D-4EAE-AEA1-96FABD4A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BA4E-7ACF-466E-84BC-465C97F2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C1C0-2C65-4FA3-AD08-3C8F7905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469-71CF-4B8E-A945-C60AB626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1ADC-5F50-4406-A9FF-87BAE966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94F1-0E2D-452F-8C96-FF8A319B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050F-41A2-4851-ADD9-D842606A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47B5-E3D7-4C9A-9D16-A6C3ABDC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6663-7038-4159-86A4-B0461BF0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978-9965-4A24-8903-5B280035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7F3-9151-4DB0-B771-B28F7FC6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404-6845-41BA-986F-3FC566CD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E20A-C9C3-4A80-8521-D1094AE8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EB60-170B-4BFE-AC0F-2475CEE4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57D-D1FF-498F-8E97-CCFD1560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F488-E6FE-4B06-AE12-CB4D8502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4535-4D3B-4E35-9BE2-4ADFC25FA35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3C12-15FB-46C8-8A4F-5A96A95E84F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d189"/>
                </a:solidFill>
                <a:latin typeface="Comic Sans MS"/>
              </a:rPr>
              <a:t>ELEMENTS </a:t>
            </a:r>
            <a:br>
              <a:rPr sz="6000"/>
            </a:br>
            <a:r>
              <a:rPr b="1" lang="en-US" sz="6000" spc="-1" strike="noStrike">
                <a:solidFill>
                  <a:srgbClr val="ebd189"/>
                </a:solidFill>
                <a:latin typeface="Comic Sans MS"/>
              </a:rPr>
              <a:t>OF DRAMA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238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Comic Sans MS"/>
              </a:rPr>
              <a:t>Romeo and Juli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y William Shakespea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O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he emotions the reader feels when reading/watching a piece of work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Excited, scared, regretful, etc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48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50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MI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Comparing two things using </a:t>
            </a:r>
            <a:r>
              <a:rPr b="0" i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like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 or </a:t>
            </a:r>
            <a:r>
              <a:rPr b="0" i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as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.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54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5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56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RSONIFIC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A figure of speech in which an animal, object, force of nature, or idea is given human qualities or characteristic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60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62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XYMOR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3810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A combination of seemingly contradictory word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: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“O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loving hate! . . .O heavy lightness! Feather of lead, bright smoke, cold fire, sick health!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till-waking sleep…This love feel I, that feel no love in this.” </a:t>
            </a: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R &amp; J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66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68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NK VER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erse written in unrhymed lines of iambic pentameter, a rhythm pattern with 5 units, or feet, each of which has an unstressed syllable followed by a stressed syllabl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1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796000" y="1819440"/>
            <a:ext cx="3043080" cy="30574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IC RELIEF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A short, funny episode that interrupts a serious or tragic, dramatic even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Breaks the tension after an intense scene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75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77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A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type of comedy that provokes laughter by placing characters in ridiculous situations to quickly resolve a conflic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81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2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83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190476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FOI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360" y="48002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character who provides a strong contrast to another character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foil may emphasize another character’s distinctive traits or make a character look better by comparis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6" name="Picture 7" descr="http://www.mckellen.com/images/1490.jpg"/>
          <p:cNvPicPr/>
          <p:nvPr/>
        </p:nvPicPr>
        <p:blipFill>
          <a:blip r:embed="rId1"/>
          <a:stretch/>
        </p:blipFill>
        <p:spPr>
          <a:xfrm>
            <a:off x="3276720" y="609480"/>
            <a:ext cx="533376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R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versal of the usual word order in a prose sentence or line of poetry, for emphasis or variety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9" name="Group 12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90" name="Rectangle 9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1" name="Rectangle 10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92" name="Picture 13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TIONAL IRON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xists when the actual outcome of a situation is the opposite of what is expected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5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96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98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RAM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A story written to be performed by actors in front of an audience.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06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07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08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RAMATIC IRON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xists when the reader knows something that a character does not know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02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04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LA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story that is told through the use of dialogue.             (a conversation between characters in a literary work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7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tion of Dialogu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logue brings characters to life by revealing their personalities and by showing what they are thinking and feeling as they react to other character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0" name="Picture 7" descr="http://iml.umkc.edu/theatre/sound/shakes/9copy.jpg"/>
          <p:cNvPicPr/>
          <p:nvPr/>
        </p:nvPicPr>
        <p:blipFill>
          <a:blip r:embed="rId1"/>
          <a:stretch/>
        </p:blipFill>
        <p:spPr>
          <a:xfrm>
            <a:off x="5562720" y="1676520"/>
            <a:ext cx="27414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LOGU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introduction of an act. The chorus tells what is going to happen in the play.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14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16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P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heater slang for articles or objects used in a play or movie. (</a:t>
            </a:r>
            <a:r>
              <a:rPr b="0" i="1" lang="en-US" sz="3600" spc="-1" strike="noStrike">
                <a:solidFill>
                  <a:srgbClr val="eaeaea"/>
                </a:solidFill>
                <a:latin typeface="Arial"/>
              </a:rPr>
              <a:t>prop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rties)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20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1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22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U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humorous play on two or more meanings of the same word or on two different words with the same sound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26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7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28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CE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subdivision of an act in a play.  Each scene usually takes place in a specific setting and time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Picture 7" descr="http://www.rfdesigns.org/graphics/comedy.jpg"/>
          <p:cNvPicPr/>
          <p:nvPr/>
        </p:nvPicPr>
        <p:blipFill>
          <a:blip r:embed="rId1"/>
          <a:stretch/>
        </p:blipFill>
        <p:spPr>
          <a:xfrm>
            <a:off x="4495680" y="1905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unction of the Scene 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680" y="502884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cene allows the author of the play to create a sense of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Setting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time and place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Picture 7" descr="http://www.amherst.edu/library/archives/exhibitions/play/images/sha-jc-set.jpg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36403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LILOQU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long speech delivered by a character who is alone onstag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soliloquy typically reveals the private thoughts and emotions of the charac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7" descr="http://www.tes.co.uk/upload/2128585/scotshappiness.jpg"/>
          <p:cNvPicPr/>
          <p:nvPr/>
        </p:nvPicPr>
        <p:blipFill>
          <a:blip r:embed="rId1"/>
          <a:stretch/>
        </p:blipFill>
        <p:spPr>
          <a:xfrm>
            <a:off x="5437080" y="1676520"/>
            <a:ext cx="299268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TAGE DIREC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a play, written instructions that explain how characters should look, speak, move, and behav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41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43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TERNAL CONFLI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A character struggles against some outside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Character vs. Character, nature, society, or fat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12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3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14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M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main idea or message of a literary work.  Theme is not the subject of the work but instead is an insight about life or human nature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6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47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48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49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RAGED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 play in which a main character, called the tragic hero, suffers a downfall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53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55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RAGIC F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weakness within the character of a tragic hero that causes the hero to suffer a downfall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259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60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261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TERNAL CONFLI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Exists within the mind of a character who is torn between different courses of action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18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9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20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AC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A major division of a play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ooks have chapt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lays have A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omeo and Juliet has 5 acts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2514600" y="1828800"/>
            <a:ext cx="4179960" cy="2910960"/>
            <a:chOff x="2514600" y="1828800"/>
            <a:chExt cx="4179960" cy="2910960"/>
          </a:xfrm>
        </p:grpSpPr>
        <p:sp>
          <p:nvSpPr>
            <p:cNvPr id="124" name="Rectangle 5"/>
            <p:cNvSpPr/>
            <p:nvPr/>
          </p:nvSpPr>
          <p:spPr>
            <a:xfrm>
              <a:off x="2514600" y="1828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2514600" y="1874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26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S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A comment made by a character that is heard by the audience only (stage whisper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Picture 4" descr="othello_Iago_whisper2"/>
          <p:cNvPicPr/>
          <p:nvPr/>
        </p:nvPicPr>
        <p:blipFill>
          <a:blip r:embed="rId1"/>
          <a:stretch/>
        </p:blipFill>
        <p:spPr>
          <a:xfrm>
            <a:off x="5105520" y="1295280"/>
            <a:ext cx="3504960" cy="5257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Func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of Asid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ides are frequently used to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1)  Provide information to the audienc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2) Reveal the private thoughts of characters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Picture 7" descr="othello_Iago_whisper2"/>
          <p:cNvPicPr/>
          <p:nvPr/>
        </p:nvPicPr>
        <p:blipFill>
          <a:blip r:embed="rId1"/>
          <a:stretch/>
        </p:blipFill>
        <p:spPr>
          <a:xfrm>
            <a:off x="5105520" y="1600200"/>
            <a:ext cx="3276360" cy="49528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RESHADOW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06668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Clues that hint at events that will occur later in the pl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Builds suspen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Prepares readers for what is to come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36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7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38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TAPHO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Compares two or more things </a:t>
            </a:r>
            <a:r>
              <a:rPr b="0" i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not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using </a:t>
            </a:r>
            <a:r>
              <a:rPr b="0" i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ike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or </a:t>
            </a:r>
            <a:r>
              <a:rPr b="0" i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as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2482920" y="1936800"/>
            <a:ext cx="4179960" cy="2910960"/>
            <a:chOff x="2482920" y="1936800"/>
            <a:chExt cx="4179960" cy="2910960"/>
          </a:xfrm>
        </p:grpSpPr>
        <p:sp>
          <p:nvSpPr>
            <p:cNvPr id="142" name="Rectangle 5"/>
            <p:cNvSpPr/>
            <p:nvPr/>
          </p:nvSpPr>
          <p:spPr>
            <a:xfrm>
              <a:off x="2482920" y="1936800"/>
              <a:ext cx="4179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3" name="Rectangle 6"/>
            <p:cNvSpPr/>
            <p:nvPr/>
          </p:nvSpPr>
          <p:spPr>
            <a:xfrm>
              <a:off x="2482920" y="1982520"/>
              <a:ext cx="41799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44" name="Picture 7" descr="funny cartoon of shakespeare play - punk actors doing romeo and juliet"/>
          <p:cNvPicPr/>
          <p:nvPr/>
        </p:nvPicPr>
        <p:blipFill>
          <a:blip r:embed="rId1"/>
          <a:stretch/>
        </p:blipFill>
        <p:spPr>
          <a:xfrm>
            <a:off x="5029200" y="1819440"/>
            <a:ext cx="3809880" cy="3827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6:49:05Z</dcterms:created>
  <dc:creator> scott killen</dc:creator>
  <dc:description/>
  <dc:language>en-US</dc:language>
  <cp:lastModifiedBy>Mcadwell</cp:lastModifiedBy>
  <dcterms:modified xsi:type="dcterms:W3CDTF">2012-02-16T16:25:10Z</dcterms:modified>
  <cp:revision>41</cp:revision>
  <dc:subject/>
  <dc:title>Elements of Dra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JDHyRqUoIdWrQzIWrVGsOYgk-0DI3MTFvjWLAtnHef4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424.7283</vt:lpwstr>
  </property>
  <property fmtid="{D5CDD505-2E9C-101B-9397-08002B2CF9AE}" pid="5" name="Google.Documents.RevisionId">
    <vt:lpwstr>04066345615424093422</vt:lpwstr>
  </property>
  <property fmtid="{D5CDD505-2E9C-101B-9397-08002B2CF9AE}" pid="6" name="Google.Documents.Tracking">
    <vt:lpwstr>true</vt:lpwstr>
  </property>
</Properties>
</file>